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9D5D-F663-45D2-A0D8-DF559AD42C3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D166F-E18C-481D-854C-7E9BAC2E4C7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C078A-5089-4A8F-AE05-A8139AEB26B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757B2-7E39-46BC-A714-E8A5762C9C6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80D50-3038-4988-8979-6CB19FCD760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0A83F-D1AF-4D7A-A778-094A494B1E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758E-0256-4606-A3B3-65757C13839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A6AEC-3225-4A01-8EA1-CA3D89E6345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8917-A7A8-4A86-8492-8FB61B01660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F8B-AB7D-41AB-A513-B0442950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B53-B525-4D38-BCF0-E95A717C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DAE-03B1-4CE3-BF7A-A90858B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E5D-09C5-47E4-8E7E-1060837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93E-9C02-4A90-B8EC-C2A8E01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8C8-F200-4889-BDB9-5FB1641B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2FD-B176-45C2-B76A-0490F7D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150-5DA1-4A5C-8FA5-DD20507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12E-BBC0-4A01-9544-FCAC271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3CC-DDE0-49AC-AF86-23C9ABA2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2D9-B81F-44B6-BD70-E50DE675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187-B138-41CA-B024-087D6EE7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233280"/>
            <a:ext cx="64515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3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8840" y="3681360"/>
            <a:ext cx="392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770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96800" y="3681360"/>
            <a:ext cx="25898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33280"/>
            <a:ext cx="6451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a/hor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rodapé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9E14-2F9A-4E73-A29B-4674DF387E67}" type="slidenum">
              <a:rPr b="0" lang="pt-B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Imagem 245" descr=""/>
          <p:cNvPicPr/>
          <p:nvPr/>
        </p:nvPicPr>
        <p:blipFill>
          <a:blip r:embed="rId2"/>
          <a:stretch/>
        </p:blipFill>
        <p:spPr>
          <a:xfrm>
            <a:off x="-52560" y="98280"/>
            <a:ext cx="7070760" cy="14576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548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utoShape 1"/>
          <p:cNvSpPr/>
          <p:nvPr/>
        </p:nvSpPr>
        <p:spPr>
          <a:xfrm>
            <a:off x="2095560" y="1114560"/>
            <a:ext cx="628560" cy="366480"/>
          </a:xfrm>
          <a:custGeom>
            <a:avLst/>
            <a:gdLst>
              <a:gd name="textAreaLeft" fmla="*/ 0 w 628560"/>
              <a:gd name="textAreaRight" fmla="*/ 628560 w 6285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628650" h="366713">
                <a:moveTo>
                  <a:pt x="0" y="0"/>
                </a:moveTo>
                <a:lnTo>
                  <a:pt x="1747" y="0"/>
                </a:lnTo>
                <a:lnTo>
                  <a:pt x="1747" y="1018"/>
                </a:lnTo>
                <a:lnTo>
                  <a:pt x="0" y="10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2"/>
          <p:cNvSpPr/>
          <p:nvPr/>
        </p:nvSpPr>
        <p:spPr>
          <a:xfrm>
            <a:off x="457200" y="272880"/>
            <a:ext cx="8226360" cy="530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tretch/>
        </p:blipFill>
        <p:spPr>
          <a:xfrm>
            <a:off x="576360" y="2712960"/>
            <a:ext cx="7797600" cy="25416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4"/>
          <p:cNvSpPr/>
          <p:nvPr/>
        </p:nvSpPr>
        <p:spPr>
          <a:xfrm>
            <a:off x="0" y="154080"/>
            <a:ext cx="645336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erra Roxa - P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AutoShape 1"/>
          <p:cNvSpPr/>
          <p:nvPr/>
        </p:nvSpPr>
        <p:spPr>
          <a:xfrm>
            <a:off x="457200" y="272880"/>
            <a:ext cx="8226360" cy="1143000"/>
          </a:xfrm>
          <a:custGeom>
            <a:avLst/>
            <a:gdLst>
              <a:gd name="textAreaLeft" fmla="*/ 0 w 8226360"/>
              <a:gd name="textAreaRight" fmla="*/ 8226720 w 822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8226425" h="1143000">
                <a:moveTo>
                  <a:pt x="0" y="0"/>
                </a:moveTo>
                <a:lnTo>
                  <a:pt x="22854" y="0"/>
                </a:lnTo>
                <a:lnTo>
                  <a:pt x="22854" y="3175"/>
                </a:lnTo>
                <a:lnTo>
                  <a:pt x="0" y="31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"/>
          <p:cNvSpPr/>
          <p:nvPr/>
        </p:nvSpPr>
        <p:spPr>
          <a:xfrm>
            <a:off x="457200" y="1604880"/>
            <a:ext cx="8043840" cy="397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0" y="272880"/>
            <a:ext cx="69105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Dados Últimos 4 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4"/>
          <p:cNvSpPr/>
          <p:nvPr/>
        </p:nvSpPr>
        <p:spPr>
          <a:xfrm>
            <a:off x="179280" y="1782720"/>
            <a:ext cx="8331480" cy="4670640"/>
          </a:xfrm>
          <a:custGeom>
            <a:avLst/>
            <a:gdLst>
              <a:gd name="textAreaLeft" fmla="*/ 0 w 8331480"/>
              <a:gd name="textAreaRight" fmla="*/ 8331840 w 8331480"/>
              <a:gd name="textAreaTop" fmla="*/ 0 h 4670640"/>
              <a:gd name="textAreaBottom" fmla="*/ 4671000 h 4670640"/>
            </a:gdLst>
            <a:ahLst/>
            <a:rect l="textAreaLeft" t="textAreaTop" r="textAreaRight" b="textAreaBottom"/>
            <a:pathLst>
              <a:path w="8331076" h="4670573">
                <a:moveTo>
                  <a:pt x="0" y="0"/>
                </a:moveTo>
                <a:lnTo>
                  <a:pt x="22351" y="0"/>
                </a:lnTo>
                <a:lnTo>
                  <a:pt x="22351" y="11049"/>
                </a:lnTo>
                <a:lnTo>
                  <a:pt x="0" y="1104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79280" y="169344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13 = 2.266 atendimentos, media de 595 trabalhadores inserido no mercado de trabalho.                    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Seguro-desemprego = 518 trabalhadores, 463 beneficiados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14 = 2.786 atendimentos, media de 708 trabalhadores inserido no mercado de trabalho.                       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 Seguro-desemprego = 563 requerentes, 539 beneficiados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15 = 3.128 atendimentos, media de 243 trabalhadores inseridos no mercado de trabalho.                     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Seguro-desemprego = 888  requerentes, 686 beneficiados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016 = 3.973 atendimentos, media de, 468 trabalhadores inserido no mercado de trabalho.                     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      Seguro-desemprego = 616 requerentes, 475 beneficiad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Últimos quatro anos crescimento com um percentual de 75,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"/>
          <p:cNvPicPr/>
          <p:nvPr/>
        </p:nvPicPr>
        <p:blipFill>
          <a:blip r:embed="rId1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CustomShape 1"/>
          <p:cNvSpPr/>
          <p:nvPr/>
        </p:nvSpPr>
        <p:spPr>
          <a:xfrm>
            <a:off x="7145280" y="5079960"/>
            <a:ext cx="1998720" cy="122256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haroni"/>
                <a:ea typeface="DejaVu Sans"/>
              </a:rPr>
              <a:t>PREFEITURA MUNI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CustomShape 2"/>
          <p:cNvSpPr/>
          <p:nvPr/>
        </p:nvSpPr>
        <p:spPr>
          <a:xfrm>
            <a:off x="2570040" y="5081760"/>
            <a:ext cx="1941480" cy="12934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" rIns="30600" tIns="30600" bIns="30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haroni"/>
                <a:ea typeface="DejaVu Sans"/>
              </a:rPr>
              <a:t>ASSOCIAC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haroni"/>
                <a:ea typeface="DejaVu Sans"/>
              </a:rPr>
              <a:t>CO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CustomShape 3"/>
          <p:cNvSpPr/>
          <p:nvPr/>
        </p:nvSpPr>
        <p:spPr>
          <a:xfrm>
            <a:off x="216000" y="5160960"/>
            <a:ext cx="1869840" cy="129384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haroni"/>
                <a:ea typeface="DejaVu Sans"/>
              </a:rPr>
              <a:t>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CustomShape 4"/>
          <p:cNvSpPr/>
          <p:nvPr/>
        </p:nvSpPr>
        <p:spPr>
          <a:xfrm>
            <a:off x="287280" y="216000"/>
            <a:ext cx="8639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CustomShape 5"/>
          <p:cNvSpPr/>
          <p:nvPr/>
        </p:nvSpPr>
        <p:spPr>
          <a:xfrm>
            <a:off x="71280" y="1152360"/>
            <a:ext cx="885528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CustomShape 6"/>
          <p:cNvSpPr/>
          <p:nvPr/>
        </p:nvSpPr>
        <p:spPr>
          <a:xfrm rot="6660000">
            <a:off x="606240" y="3801960"/>
            <a:ext cx="1406520" cy="822240"/>
          </a:xfrm>
          <a:prstGeom prst="rightArrow">
            <a:avLst>
              <a:gd name="adj1" fmla="val 60000"/>
              <a:gd name="adj2" fmla="val 49971"/>
            </a:avLst>
          </a:prstGeom>
          <a:solidFill>
            <a:srgbClr val="00ae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CustomShape 7"/>
          <p:cNvSpPr/>
          <p:nvPr/>
        </p:nvSpPr>
        <p:spPr>
          <a:xfrm rot="3720000">
            <a:off x="7112520" y="3821760"/>
            <a:ext cx="1403640" cy="782640"/>
          </a:xfrm>
          <a:prstGeom prst="rightArrow">
            <a:avLst>
              <a:gd name="adj1" fmla="val 60000"/>
              <a:gd name="adj2" fmla="val 50101"/>
            </a:avLst>
          </a:prstGeom>
          <a:solidFill>
            <a:srgbClr val="00ae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ustomShape 8"/>
          <p:cNvSpPr/>
          <p:nvPr/>
        </p:nvSpPr>
        <p:spPr>
          <a:xfrm rot="5400000">
            <a:off x="2931120" y="3967560"/>
            <a:ext cx="1220760" cy="717840"/>
          </a:xfrm>
          <a:prstGeom prst="rightArrow">
            <a:avLst>
              <a:gd name="adj1" fmla="val 60000"/>
              <a:gd name="adj2" fmla="val 49963"/>
            </a:avLst>
          </a:prstGeom>
          <a:solidFill>
            <a:srgbClr val="00ae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CustomShape 9"/>
          <p:cNvSpPr/>
          <p:nvPr/>
        </p:nvSpPr>
        <p:spPr>
          <a:xfrm rot="5400000">
            <a:off x="5247720" y="3976560"/>
            <a:ext cx="1222560" cy="701640"/>
          </a:xfrm>
          <a:prstGeom prst="rightArrow">
            <a:avLst>
              <a:gd name="adj1" fmla="val 60000"/>
              <a:gd name="adj2" fmla="val 50063"/>
            </a:avLst>
          </a:prstGeom>
          <a:solidFill>
            <a:srgbClr val="00ae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Imagem 297" descr=""/>
          <p:cNvPicPr/>
          <p:nvPr/>
        </p:nvPicPr>
        <p:blipFill>
          <a:blip r:embed="rId1"/>
          <a:stretch/>
        </p:blipFill>
        <p:spPr>
          <a:xfrm>
            <a:off x="2195640" y="1833480"/>
            <a:ext cx="4822560" cy="1798560"/>
          </a:xfrm>
          <a:prstGeom prst="rect">
            <a:avLst/>
          </a:prstGeom>
          <a:ln w="0">
            <a:noFill/>
          </a:ln>
        </p:spPr>
      </p:pic>
      <p:sp>
        <p:nvSpPr>
          <p:cNvPr id="694" name="CustomShape 10"/>
          <p:cNvSpPr/>
          <p:nvPr/>
        </p:nvSpPr>
        <p:spPr>
          <a:xfrm>
            <a:off x="4967280" y="5081760"/>
            <a:ext cx="1905120" cy="122076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haroni"/>
                <a:ea typeface="DejaVu Sans"/>
              </a:rPr>
              <a:t>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haroni"/>
                <a:ea typeface="DejaVu Sans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1280" y="232920"/>
            <a:ext cx="684072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alibri"/>
                <a:ea typeface="DejaVu Sans"/>
              </a:rPr>
              <a:t>Parcerias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96" name="Picture 5" descr=""/>
          <p:cNvPicPr/>
          <p:nvPr/>
        </p:nvPicPr>
        <p:blipFill>
          <a:blip r:embed="rId2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1"/>
          <p:cNvSpPr/>
          <p:nvPr/>
        </p:nvSpPr>
        <p:spPr>
          <a:xfrm>
            <a:off x="49320" y="115920"/>
            <a:ext cx="6453000" cy="1144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"/>
          <p:cNvSpPr/>
          <p:nvPr/>
        </p:nvSpPr>
        <p:spPr>
          <a:xfrm>
            <a:off x="457200" y="1604880"/>
            <a:ext cx="8045280" cy="3976920"/>
          </a:xfrm>
          <a:custGeom>
            <a:avLst/>
            <a:gdLst>
              <a:gd name="textAreaLeft" fmla="*/ 0 w 8045280"/>
              <a:gd name="textAreaRight" fmla="*/ 8045640 w 8045280"/>
              <a:gd name="textAreaTop" fmla="*/ 0 h 3976920"/>
              <a:gd name="textAreaBottom" fmla="*/ 3977280 h 3976920"/>
            </a:gdLst>
            <a:ahLst/>
            <a:rect l="textAreaLeft" t="textAreaTop" r="textAreaRight" b="textAreaBottom"/>
            <a:pathLst>
              <a:path w="8045450" h="3976687">
                <a:moveTo>
                  <a:pt x="0" y="0"/>
                </a:moveTo>
                <a:lnTo>
                  <a:pt x="22351" y="0"/>
                </a:lnTo>
                <a:lnTo>
                  <a:pt x="22351" y="11049"/>
                </a:lnTo>
                <a:lnTo>
                  <a:pt x="0" y="1104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1"/>
          <a:stretch/>
        </p:blipFill>
        <p:spPr>
          <a:xfrm>
            <a:off x="7466040" y="5737320"/>
            <a:ext cx="1533600" cy="957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144360" y="5950080"/>
            <a:ext cx="1069920" cy="817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3"/>
          <a:stretch/>
        </p:blipFill>
        <p:spPr>
          <a:xfrm>
            <a:off x="144360" y="1800360"/>
            <a:ext cx="3959280" cy="2303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"/>
          <p:cNvPicPr/>
          <p:nvPr/>
        </p:nvPicPr>
        <p:blipFill>
          <a:blip r:embed="rId4"/>
          <a:stretch/>
        </p:blipFill>
        <p:spPr>
          <a:xfrm>
            <a:off x="1152360" y="4176720"/>
            <a:ext cx="3240360" cy="20160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"/>
          <p:cNvPicPr/>
          <p:nvPr/>
        </p:nvPicPr>
        <p:blipFill>
          <a:blip r:embed="rId5"/>
          <a:stretch/>
        </p:blipFill>
        <p:spPr>
          <a:xfrm>
            <a:off x="4464000" y="5040360"/>
            <a:ext cx="2735280" cy="1727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" descr=""/>
          <p:cNvPicPr/>
          <p:nvPr/>
        </p:nvPicPr>
        <p:blipFill>
          <a:blip r:embed="rId6"/>
          <a:stretch/>
        </p:blipFill>
        <p:spPr>
          <a:xfrm>
            <a:off x="4751280" y="180036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320" y="233280"/>
            <a:ext cx="6859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nfraestrutu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" descr=""/>
          <p:cNvPicPr/>
          <p:nvPr/>
        </p:nvPicPr>
        <p:blipFill>
          <a:blip r:embed="rId1"/>
          <a:stretch/>
        </p:blipFill>
        <p:spPr>
          <a:xfrm>
            <a:off x="2970360" y="1628640"/>
            <a:ext cx="2663640" cy="15843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" descr=""/>
          <p:cNvPicPr/>
          <p:nvPr/>
        </p:nvPicPr>
        <p:blipFill>
          <a:blip r:embed="rId2"/>
          <a:stretch/>
        </p:blipFill>
        <p:spPr>
          <a:xfrm>
            <a:off x="5918040" y="172872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"/>
          <p:cNvPicPr/>
          <p:nvPr/>
        </p:nvPicPr>
        <p:blipFill>
          <a:blip r:embed="rId3"/>
          <a:stretch/>
        </p:blipFill>
        <p:spPr>
          <a:xfrm>
            <a:off x="61920" y="1700280"/>
            <a:ext cx="2663640" cy="15843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" descr=""/>
          <p:cNvPicPr/>
          <p:nvPr/>
        </p:nvPicPr>
        <p:blipFill>
          <a:blip r:embed="rId4"/>
          <a:stretch/>
        </p:blipFill>
        <p:spPr>
          <a:xfrm>
            <a:off x="61920" y="3382920"/>
            <a:ext cx="2663640" cy="1584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"/>
          <p:cNvPicPr/>
          <p:nvPr/>
        </p:nvPicPr>
        <p:blipFill>
          <a:blip r:embed="rId5"/>
          <a:stretch/>
        </p:blipFill>
        <p:spPr>
          <a:xfrm>
            <a:off x="209520" y="5033880"/>
            <a:ext cx="1244520" cy="17985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"/>
          <p:cNvPicPr/>
          <p:nvPr/>
        </p:nvPicPr>
        <p:blipFill>
          <a:blip r:embed="rId6"/>
          <a:stretch/>
        </p:blipFill>
        <p:spPr>
          <a:xfrm>
            <a:off x="7250040" y="4976640"/>
            <a:ext cx="1228680" cy="17989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7"/>
          <a:stretch/>
        </p:blipFill>
        <p:spPr>
          <a:xfrm>
            <a:off x="2943360" y="3390840"/>
            <a:ext cx="2663640" cy="15606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"/>
          <p:cNvPicPr/>
          <p:nvPr/>
        </p:nvPicPr>
        <p:blipFill>
          <a:blip r:embed="rId8"/>
          <a:stretch/>
        </p:blipFill>
        <p:spPr>
          <a:xfrm>
            <a:off x="5918040" y="3382920"/>
            <a:ext cx="2664000" cy="15606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"/>
          <p:cNvPicPr/>
          <p:nvPr/>
        </p:nvPicPr>
        <p:blipFill>
          <a:blip r:embed="rId9"/>
          <a:stretch/>
        </p:blipFill>
        <p:spPr>
          <a:xfrm>
            <a:off x="2800440" y="5079960"/>
            <a:ext cx="3456000" cy="17254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nfraestru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5" descr=""/>
          <p:cNvPicPr/>
          <p:nvPr/>
        </p:nvPicPr>
        <p:blipFill>
          <a:blip r:embed="rId10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1"/>
          <p:cNvSpPr/>
          <p:nvPr/>
        </p:nvSpPr>
        <p:spPr>
          <a:xfrm>
            <a:off x="277920" y="1646280"/>
            <a:ext cx="8584920" cy="4997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"/>
          <p:cNvSpPr/>
          <p:nvPr/>
        </p:nvSpPr>
        <p:spPr>
          <a:xfrm>
            <a:off x="252360" y="6381720"/>
            <a:ext cx="363600" cy="357120"/>
          </a:xfrm>
          <a:custGeom>
            <a:avLst/>
            <a:gdLst>
              <a:gd name="textAreaLeft" fmla="*/ 0 w 363600"/>
              <a:gd name="textAreaRight" fmla="*/ 363960 w 3636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63537" h="357188">
                <a:moveTo>
                  <a:pt x="0" y="0"/>
                </a:moveTo>
                <a:lnTo>
                  <a:pt x="1011" y="0"/>
                </a:lnTo>
                <a:lnTo>
                  <a:pt x="1011" y="992"/>
                </a:lnTo>
                <a:lnTo>
                  <a:pt x="0" y="99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-25560" y="309600"/>
            <a:ext cx="6983640" cy="743040"/>
          </a:xfrm>
          <a:custGeom>
            <a:avLst/>
            <a:gdLst>
              <a:gd name="textAreaLeft" fmla="*/ 0 w 6983640"/>
              <a:gd name="textAreaRight" fmla="*/ 6984000 w 6983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983413" h="1295400">
                <a:moveTo>
                  <a:pt x="0" y="0"/>
                </a:moveTo>
                <a:lnTo>
                  <a:pt x="19401" y="0"/>
                </a:lnTo>
                <a:lnTo>
                  <a:pt x="19401" y="3601"/>
                </a:lnTo>
                <a:lnTo>
                  <a:pt x="0" y="360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457200" y="272880"/>
            <a:ext cx="8226360" cy="1143000"/>
          </a:xfrm>
          <a:custGeom>
            <a:avLst/>
            <a:gdLst>
              <a:gd name="textAreaLeft" fmla="*/ 0 w 8226360"/>
              <a:gd name="textAreaRight" fmla="*/ 8226720 w 822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8226425" h="1143000">
                <a:moveTo>
                  <a:pt x="0" y="0"/>
                </a:moveTo>
                <a:lnTo>
                  <a:pt x="22854" y="0"/>
                </a:lnTo>
                <a:lnTo>
                  <a:pt x="22854" y="3175"/>
                </a:lnTo>
                <a:lnTo>
                  <a:pt x="0" y="31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457200" y="1604880"/>
            <a:ext cx="8043840" cy="397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71280" y="1584360"/>
            <a:ext cx="6767640" cy="792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Atendimento e Orient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7" descr=""/>
          <p:cNvPicPr/>
          <p:nvPr/>
        </p:nvPicPr>
        <p:blipFill>
          <a:blip r:embed="rId1"/>
          <a:stretch/>
        </p:blipFill>
        <p:spPr>
          <a:xfrm>
            <a:off x="7451640" y="5688000"/>
            <a:ext cx="1568520" cy="10303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9" descr=""/>
          <p:cNvPicPr/>
          <p:nvPr/>
        </p:nvPicPr>
        <p:blipFill>
          <a:blip r:embed="rId2"/>
          <a:stretch/>
        </p:blipFill>
        <p:spPr>
          <a:xfrm>
            <a:off x="4105440" y="2363760"/>
            <a:ext cx="2852640" cy="21574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3"/>
          <a:stretch/>
        </p:blipFill>
        <p:spPr>
          <a:xfrm>
            <a:off x="900000" y="4610160"/>
            <a:ext cx="2853000" cy="21574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"/>
          <p:cNvPicPr/>
          <p:nvPr/>
        </p:nvPicPr>
        <p:blipFill>
          <a:blip r:embed="rId4"/>
          <a:stretch/>
        </p:blipFill>
        <p:spPr>
          <a:xfrm>
            <a:off x="4135320" y="4560840"/>
            <a:ext cx="2853000" cy="21574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5"/>
          <a:stretch/>
        </p:blipFill>
        <p:spPr>
          <a:xfrm>
            <a:off x="900000" y="2363760"/>
            <a:ext cx="2853000" cy="216072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1280" y="272520"/>
            <a:ext cx="68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  <a:ea typeface="Arial"/>
              </a:rPr>
              <a:t>Seguro desempre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5" descr=""/>
          <p:cNvPicPr/>
          <p:nvPr/>
        </p:nvPicPr>
        <p:blipFill>
          <a:blip r:embed="rId6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AutoShape 1"/>
          <p:cNvSpPr/>
          <p:nvPr/>
        </p:nvSpPr>
        <p:spPr>
          <a:xfrm>
            <a:off x="457200" y="272880"/>
            <a:ext cx="8226360" cy="1143000"/>
          </a:xfrm>
          <a:custGeom>
            <a:avLst/>
            <a:gdLst>
              <a:gd name="textAreaLeft" fmla="*/ 0 w 8226360"/>
              <a:gd name="textAreaRight" fmla="*/ 8226720 w 822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8226425" h="1143000">
                <a:moveTo>
                  <a:pt x="0" y="0"/>
                </a:moveTo>
                <a:lnTo>
                  <a:pt x="22854" y="0"/>
                </a:lnTo>
                <a:lnTo>
                  <a:pt x="22854" y="3175"/>
                </a:lnTo>
                <a:lnTo>
                  <a:pt x="0" y="31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"/>
          <p:cNvSpPr/>
          <p:nvPr/>
        </p:nvSpPr>
        <p:spPr>
          <a:xfrm>
            <a:off x="457200" y="1584360"/>
            <a:ext cx="7678800" cy="1800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c5000b"/>
                </a:solidFill>
                <a:latin typeface="Arial"/>
              </a:rPr>
              <a:t>Agência do trabalhador + PERTO DE VOC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c5000b"/>
                </a:solidFill>
                <a:latin typeface="Arial"/>
              </a:rPr>
              <a:t>Visitas nas empres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"/>
          <p:cNvSpPr/>
          <p:nvPr/>
        </p:nvSpPr>
        <p:spPr>
          <a:xfrm>
            <a:off x="71280" y="144360"/>
            <a:ext cx="6839280" cy="136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ptação de vagas de empr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7470720" y="2459160"/>
            <a:ext cx="1530360" cy="2255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2916360" y="2484360"/>
            <a:ext cx="2447640" cy="20638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5676840" y="2448000"/>
            <a:ext cx="1511280" cy="22557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4"/>
          <a:stretch/>
        </p:blipFill>
        <p:spPr>
          <a:xfrm>
            <a:off x="3552840" y="4900680"/>
            <a:ext cx="2879640" cy="1728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"/>
          <p:cNvPicPr/>
          <p:nvPr/>
        </p:nvPicPr>
        <p:blipFill>
          <a:blip r:embed="rId5"/>
          <a:stretch/>
        </p:blipFill>
        <p:spPr>
          <a:xfrm>
            <a:off x="96840" y="4900680"/>
            <a:ext cx="2819520" cy="17287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9" descr=""/>
          <p:cNvPicPr/>
          <p:nvPr/>
        </p:nvPicPr>
        <p:blipFill>
          <a:blip r:embed="rId6"/>
          <a:stretch/>
        </p:blipFill>
        <p:spPr>
          <a:xfrm>
            <a:off x="6697800" y="4957920"/>
            <a:ext cx="2303280" cy="17287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0" descr=""/>
          <p:cNvPicPr/>
          <p:nvPr/>
        </p:nvPicPr>
        <p:blipFill>
          <a:blip r:embed="rId7"/>
          <a:stretch/>
        </p:blipFill>
        <p:spPr>
          <a:xfrm>
            <a:off x="96840" y="2465280"/>
            <a:ext cx="2448000" cy="2063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"/>
          <p:cNvPicPr/>
          <p:nvPr/>
        </p:nvPicPr>
        <p:blipFill>
          <a:blip r:embed="rId8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1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ptação de vagas de emprego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mediação de Mão de O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1"/>
          <a:stretch/>
        </p:blipFill>
        <p:spPr>
          <a:xfrm>
            <a:off x="2376360" y="2232000"/>
            <a:ext cx="4176720" cy="2519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" descr=""/>
          <p:cNvPicPr/>
          <p:nvPr/>
        </p:nvPicPr>
        <p:blipFill>
          <a:blip r:embed="rId2"/>
          <a:stretch/>
        </p:blipFill>
        <p:spPr>
          <a:xfrm>
            <a:off x="6840360" y="2232000"/>
            <a:ext cx="1695600" cy="2519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" descr=""/>
          <p:cNvPicPr/>
          <p:nvPr/>
        </p:nvPicPr>
        <p:blipFill>
          <a:blip r:embed="rId3"/>
          <a:stretch/>
        </p:blipFill>
        <p:spPr>
          <a:xfrm>
            <a:off x="357120" y="2232000"/>
            <a:ext cx="1658880" cy="251928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5"/>
          <p:cNvSpPr/>
          <p:nvPr/>
        </p:nvSpPr>
        <p:spPr>
          <a:xfrm>
            <a:off x="287280" y="1295280"/>
            <a:ext cx="83995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ro Braziolli de Oliveira  e esposa Mirna Schneider Braziol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edro, você gostaria de deixar alguma mensagem aos leitore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Arial"/>
              </a:rPr>
              <a:t>Se você quer fazer bem feito, se quer ter uma profissão, se quer ganhar a vida honestamente, trabalhando de um modo valioso, que possa fazer as coisas com qualidade, o AGENCIA DO TRABALHADOR te ajuda, mostrando como crescer. A AGENCIA DO TRABALHADOR é um caminho para o Profissional ser bem sucedido em qualquer áre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5" descr=""/>
          <p:cNvPicPr/>
          <p:nvPr/>
        </p:nvPicPr>
        <p:blipFill>
          <a:blip r:embed="rId4"/>
          <a:stretch/>
        </p:blipFill>
        <p:spPr>
          <a:xfrm>
            <a:off x="7451640" y="271440"/>
            <a:ext cx="133992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1"/>
          <p:cNvSpPr/>
          <p:nvPr/>
        </p:nvSpPr>
        <p:spPr>
          <a:xfrm>
            <a:off x="457200" y="272880"/>
            <a:ext cx="64533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9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9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2"/>
          <p:cNvSpPr/>
          <p:nvPr/>
        </p:nvSpPr>
        <p:spPr>
          <a:xfrm>
            <a:off x="457200" y="1604880"/>
            <a:ext cx="8045280" cy="3976920"/>
          </a:xfrm>
          <a:custGeom>
            <a:avLst/>
            <a:gdLst>
              <a:gd name="textAreaLeft" fmla="*/ 0 w 8045280"/>
              <a:gd name="textAreaRight" fmla="*/ 8045640 w 8045280"/>
              <a:gd name="textAreaTop" fmla="*/ 0 h 3976920"/>
              <a:gd name="textAreaBottom" fmla="*/ 3977280 h 3976920"/>
            </a:gdLst>
            <a:ahLst/>
            <a:rect l="textAreaLeft" t="textAreaTop" r="textAreaRight" b="textAreaBottom"/>
            <a:pathLst>
              <a:path w="8045450" h="3976687">
                <a:moveTo>
                  <a:pt x="0" y="0"/>
                </a:moveTo>
                <a:lnTo>
                  <a:pt x="22351" y="0"/>
                </a:lnTo>
                <a:lnTo>
                  <a:pt x="22351" y="11049"/>
                </a:lnTo>
                <a:lnTo>
                  <a:pt x="0" y="1104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" descr=""/>
          <p:cNvPicPr/>
          <p:nvPr/>
        </p:nvPicPr>
        <p:blipFill>
          <a:blip r:embed="rId1"/>
          <a:stretch/>
        </p:blipFill>
        <p:spPr>
          <a:xfrm>
            <a:off x="4916520" y="2205000"/>
            <a:ext cx="3959280" cy="2374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"/>
          <p:cNvPicPr/>
          <p:nvPr/>
        </p:nvPicPr>
        <p:blipFill>
          <a:blip r:embed="rId2"/>
          <a:stretch/>
        </p:blipFill>
        <p:spPr>
          <a:xfrm>
            <a:off x="144360" y="220500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uario</dc:creator>
  <dc:description/>
  <dc:language>en-US</dc:language>
  <cp:lastModifiedBy>Useuario</cp:lastModifiedBy>
  <dcterms:modified xsi:type="dcterms:W3CDTF">2017-03-30T14:42:06Z</dcterms:modified>
  <cp:revision>6</cp:revision>
  <dc:subject/>
  <dc:title>Apresentação do PowerPoint</dc:title>
</cp:coreProperties>
</file>